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ED6-205F-4694-AEDE-322AA9CB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727-0E33-4C56-9C48-BE700F77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7A9-3FAF-48B8-8135-B3C91440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F6B-EE4E-466A-B98F-46FE9DDB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2236-DE4A-45AA-A782-74E696CC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8347-907E-44D6-8846-D7C17AFA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B238-31FB-4233-8711-8FA3C786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410C-E378-402F-B43C-016AFD9B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2FD6-9156-4722-9A42-83B6A366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9C5B-93EC-40F1-BEE4-86924A1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6078-A21E-48F7-BB3A-5CC1AACF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218-909B-4290-BDC7-440D0AD6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08B3-953F-403F-B793-1FF3915F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10B5-F00C-4663-8C86-C6EBAE6F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8486-548E-43E2-AF30-68DEDC9A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F288-7134-411C-929A-9EDF25EF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DCCC-AB97-43D3-BF0B-D5DB2A05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F33-9BC1-49AE-9CD1-4AA21C1B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440-8E84-4EDF-9BE6-C4AC90AA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74E-9012-41B5-B98E-B9869D56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C10-D489-4625-A36C-55A381F7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652-0316-4046-99F9-0C613B6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8C5-54EC-4D31-8090-F00B5A82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2C0-B7F7-453A-977E-EA2EF6C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E404-3AE3-4103-AD71-D51CD0F03B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9E0F-554A-4BB7-803A-66364B6E88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19685" t="0" r="0" b="0"/>
          <a:stretch/>
        </p:blipFill>
        <p:spPr>
          <a:xfrm>
            <a:off x="-4680" y="6307200"/>
            <a:ext cx="9185040" cy="550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4328640" y="6400440"/>
            <a:ext cx="48150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7320" y="735120"/>
            <a:ext cx="7988400" cy="489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0" t="0" r="0" b="26247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466200"/>
            <a:ext cx="7010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it-Line Leakage Cancellation: </a:t>
            </a:r>
            <a:br>
              <a:rPr sz="3600"/>
            </a:br>
            <a:r>
              <a:rPr b="1" lang="en-US" sz="3600" spc="-1" strike="noStrike">
                <a:solidFill>
                  <a:srgbClr val="cccc00"/>
                </a:solidFill>
                <a:latin typeface="Arial"/>
              </a:rPr>
              <a:t>Design and Test Autom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hanshu Kh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9EFC-4E73-490A-A495-7DC8272C0CE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time 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3D8-D6FB-4751-A555-B1547EFE687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4038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752480"/>
            <a:ext cx="8229600" cy="2057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liver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Cancel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Chip High Speed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B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2362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BOTTOM – UP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664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OP – DOW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AB3-B728-4877-A3E8-137209B65E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oals: L1 Cache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Dens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ore Bit-Cells, Less Periph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e High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How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wer Rea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 (Scaling issu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r 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lea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6B5-5BA0-481E-9C01-983611FD3F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886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solution: Reduce # cells on a bit-line                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=&gt; Lower Den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-line leakage is </a:t>
            </a:r>
            <a:r>
              <a:rPr b="1" lang="en-US" sz="3000" spc="-1" strike="noStrike">
                <a:solidFill>
                  <a:srgbClr val="cccc00"/>
                </a:solidFill>
                <a:latin typeface="Arial"/>
              </a:rPr>
              <a:t>Data-depen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48120" cy="2036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276720" cy="21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A3C-53F8-419E-A1D6-813D04E3EF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y is Bit-Line Leakage an Issu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4689000"/>
            <a:ext cx="80773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differential =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V(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eaks, differential low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00"/>
                </a:solidFill>
                <a:latin typeface="Arial"/>
              </a:rPr>
              <a:t>More time needed to generate same differential   =&gt; Lower Spe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15756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897440" y="1066680"/>
            <a:ext cx="3027240" cy="327672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1C4-4BD6-4147-9D4F-E8426CA41B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09680" y="234936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 Speed Test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09960" y="3263400"/>
            <a:ext cx="1020960" cy="811800"/>
            <a:chOff x="3909960" y="3263400"/>
            <a:chExt cx="1020960" cy="811800"/>
          </a:xfrm>
        </p:grpSpPr>
        <p:sp>
          <p:nvSpPr>
            <p:cNvPr id="249" name=""/>
            <p:cNvSpPr/>
            <p:nvPr/>
          </p:nvSpPr>
          <p:spPr>
            <a:xfrm>
              <a:off x="3909960" y="3263760"/>
              <a:ext cx="1080" cy="811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909960" y="3668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3909960" y="3263400"/>
              <a:ext cx="851040" cy="4064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59920" y="3587760"/>
              <a:ext cx="171000" cy="163080"/>
            </a:xfrm>
            <a:prstGeom prst="ellipse">
              <a:avLst/>
            </a:prstGeom>
            <a:solidFill>
              <a:srgbClr val="cccc00"/>
            </a:solidFill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752480" y="3657600"/>
            <a:ext cx="2143080" cy="144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3657600"/>
            <a:ext cx="205740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133720"/>
            <a:ext cx="1828800" cy="1143000"/>
          </a:xfrm>
          <a:prstGeom prst="wedgeRoundRectCallout">
            <a:avLst>
              <a:gd name="adj1" fmla="val -6768"/>
              <a:gd name="adj2" fmla="val 76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3623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473280"/>
            <a:ext cx="228600" cy="381240"/>
          </a:xfrm>
          <a:prstGeom prst="rect">
            <a:avLst/>
          </a:prstGeom>
          <a:solidFill>
            <a:srgbClr val="cc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4267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GHz I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4343400"/>
            <a:ext cx="2286000" cy="1219320"/>
          </a:xfrm>
          <a:prstGeom prst="wedgeRoundRectCallout">
            <a:avLst>
              <a:gd name="adj1" fmla="val -53402"/>
              <a:gd name="adj2" fmla="val -9270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449568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1981080"/>
            <a:ext cx="2057400" cy="1067040"/>
          </a:xfrm>
          <a:prstGeom prst="wedgeRoundRectCallout">
            <a:avLst>
              <a:gd name="adj1" fmla="val 1699"/>
              <a:gd name="adj2" fmla="val 10654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09520" y="3549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35449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57150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 can make a FAST inverter, but you cant se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D8D-658E-46C8-B0D8-24EFE87F4A0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8680" y="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mory BIS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10360" y="1936800"/>
            <a:ext cx="0" cy="2136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24680" y="3333600"/>
            <a:ext cx="7365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33680" y="3116160"/>
            <a:ext cx="1192320" cy="16344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3160" y="2798640"/>
            <a:ext cx="2050920" cy="5112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21000" y="2438280"/>
            <a:ext cx="2970360" cy="86040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2208240"/>
            <a:ext cx="4470480" cy="895320"/>
          </a:xfrm>
          <a:custGeom>
            <a:avLst/>
            <a:gdLst/>
            <a:ahLst/>
            <a:rect l="l" t="t" r="r" b="b"/>
            <a:pathLst>
              <a:path w="2816" h="564">
                <a:moveTo>
                  <a:pt x="0" y="0"/>
                </a:moveTo>
                <a:lnTo>
                  <a:pt x="2816" y="0"/>
                </a:lnTo>
                <a:lnTo>
                  <a:pt x="2816" y="56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16440" y="345276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41920" y="34783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54800" y="350352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955880" y="3567240"/>
            <a:ext cx="0" cy="723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54080" y="3554280"/>
            <a:ext cx="0" cy="72396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70800" y="1816200"/>
            <a:ext cx="0" cy="1487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45320" y="1828800"/>
            <a:ext cx="0" cy="145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94280" y="1841400"/>
            <a:ext cx="0" cy="144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12920" y="3424320"/>
            <a:ext cx="3273480" cy="838080"/>
          </a:xfrm>
          <a:custGeom>
            <a:avLst/>
            <a:gdLst/>
            <a:ahLst/>
            <a:rect l="l" t="t" r="r" b="b"/>
            <a:pathLst>
              <a:path w="2062" h="528">
                <a:moveTo>
                  <a:pt x="0" y="528"/>
                </a:moveTo>
                <a:lnTo>
                  <a:pt x="462" y="528"/>
                </a:lnTo>
                <a:lnTo>
                  <a:pt x="462" y="0"/>
                </a:lnTo>
                <a:lnTo>
                  <a:pt x="2062" y="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54080" y="1522440"/>
            <a:ext cx="0" cy="507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00" y="2043000"/>
            <a:ext cx="2755800" cy="14734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863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06680" y="939960"/>
            <a:ext cx="4945320" cy="1126800"/>
          </a:xfrm>
          <a:custGeom>
            <a:avLst/>
            <a:gdLst/>
            <a:ahLst/>
            <a:rect l="l" t="t" r="r" b="b"/>
            <a:pathLst>
              <a:path w="4211" h="978">
                <a:moveTo>
                  <a:pt x="27" y="380"/>
                </a:moveTo>
                <a:cubicBezTo>
                  <a:pt x="18" y="305"/>
                  <a:pt x="0" y="207"/>
                  <a:pt x="36" y="153"/>
                </a:cubicBezTo>
                <a:cubicBezTo>
                  <a:pt x="72" y="99"/>
                  <a:pt x="121" y="61"/>
                  <a:pt x="245" y="53"/>
                </a:cubicBezTo>
                <a:cubicBezTo>
                  <a:pt x="369" y="45"/>
                  <a:pt x="614" y="103"/>
                  <a:pt x="781" y="107"/>
                </a:cubicBezTo>
                <a:cubicBezTo>
                  <a:pt x="948" y="111"/>
                  <a:pt x="1068" y="80"/>
                  <a:pt x="1245" y="80"/>
                </a:cubicBezTo>
                <a:cubicBezTo>
                  <a:pt x="1422" y="80"/>
                  <a:pt x="1647" y="108"/>
                  <a:pt x="1845" y="107"/>
                </a:cubicBezTo>
                <a:cubicBezTo>
                  <a:pt x="2043" y="106"/>
                  <a:pt x="2264" y="79"/>
                  <a:pt x="2434" y="75"/>
                </a:cubicBezTo>
                <a:cubicBezTo>
                  <a:pt x="2604" y="71"/>
                  <a:pt x="2725" y="81"/>
                  <a:pt x="2863" y="80"/>
                </a:cubicBezTo>
                <a:cubicBezTo>
                  <a:pt x="3001" y="79"/>
                  <a:pt x="3149" y="73"/>
                  <a:pt x="3263" y="71"/>
                </a:cubicBezTo>
                <a:cubicBezTo>
                  <a:pt x="3377" y="69"/>
                  <a:pt x="3462" y="60"/>
                  <a:pt x="3545" y="71"/>
                </a:cubicBezTo>
                <a:cubicBezTo>
                  <a:pt x="3628" y="82"/>
                  <a:pt x="3696" y="133"/>
                  <a:pt x="3763" y="135"/>
                </a:cubicBezTo>
                <a:cubicBezTo>
                  <a:pt x="3830" y="137"/>
                  <a:pt x="3873" y="88"/>
                  <a:pt x="3945" y="80"/>
                </a:cubicBezTo>
                <a:cubicBezTo>
                  <a:pt x="4017" y="72"/>
                  <a:pt x="4185" y="0"/>
                  <a:pt x="4198" y="87"/>
                </a:cubicBezTo>
                <a:cubicBezTo>
                  <a:pt x="4211" y="174"/>
                  <a:pt x="4129" y="477"/>
                  <a:pt x="4025" y="600"/>
                </a:cubicBezTo>
                <a:cubicBezTo>
                  <a:pt x="3921" y="723"/>
                  <a:pt x="3757" y="786"/>
                  <a:pt x="3572" y="822"/>
                </a:cubicBezTo>
                <a:cubicBezTo>
                  <a:pt x="3387" y="858"/>
                  <a:pt x="3072" y="834"/>
                  <a:pt x="2916" y="817"/>
                </a:cubicBezTo>
                <a:cubicBezTo>
                  <a:pt x="2760" y="800"/>
                  <a:pt x="2767" y="699"/>
                  <a:pt x="2635" y="721"/>
                </a:cubicBezTo>
                <a:cubicBezTo>
                  <a:pt x="2503" y="743"/>
                  <a:pt x="2318" y="920"/>
                  <a:pt x="2126" y="949"/>
                </a:cubicBezTo>
                <a:cubicBezTo>
                  <a:pt x="1934" y="978"/>
                  <a:pt x="1722" y="909"/>
                  <a:pt x="1480" y="898"/>
                </a:cubicBezTo>
                <a:cubicBezTo>
                  <a:pt x="1238" y="887"/>
                  <a:pt x="859" y="911"/>
                  <a:pt x="671" y="882"/>
                </a:cubicBezTo>
                <a:cubicBezTo>
                  <a:pt x="483" y="853"/>
                  <a:pt x="450" y="767"/>
                  <a:pt x="353" y="721"/>
                </a:cubicBezTo>
                <a:cubicBezTo>
                  <a:pt x="256" y="675"/>
                  <a:pt x="144" y="661"/>
                  <a:pt x="90" y="604"/>
                </a:cubicBezTo>
                <a:cubicBezTo>
                  <a:pt x="36" y="547"/>
                  <a:pt x="36" y="455"/>
                  <a:pt x="27" y="380"/>
                </a:cubicBezTo>
                <a:close/>
              </a:path>
            </a:pathLst>
          </a:custGeom>
          <a:solidFill>
            <a:srgbClr val="0066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51560" y="3100320"/>
            <a:ext cx="644760" cy="4651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27920" y="3957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6840" y="11599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Speed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080" y="119592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Tester (Slow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71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27920" y="3303720"/>
            <a:ext cx="663480" cy="242640"/>
          </a:xfrm>
          <a:custGeom>
            <a:avLst/>
            <a:gdLst>
              <a:gd name="textAreaLeft" fmla="*/ 100440 w 663480"/>
              <a:gd name="textAreaRight" fmla="*/ 563040 w 663480"/>
              <a:gd name="textAreaTop" fmla="*/ 36720 h 242640"/>
              <a:gd name="textAreaBottom" fmla="*/ 205920 h 2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50" y="21600"/>
                </a:lnTo>
                <a:lnTo>
                  <a:pt x="2750" y="21600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84200" y="259884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Address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5480" y="2166840"/>
            <a:ext cx="474840" cy="117324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84200" y="2173320"/>
            <a:ext cx="1935360" cy="31752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Data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84200" y="3024360"/>
            <a:ext cx="1935360" cy="3171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Contro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5400" y="4271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96600" y="4271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09640" y="3004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121520" y="3587040"/>
            <a:ext cx="557280" cy="276120"/>
          </a:xfrm>
          <a:custGeom>
            <a:avLst/>
            <a:gdLst/>
            <a:ahLst/>
            <a:rect l="l" t="t" r="r" b="b"/>
            <a:pathLst>
              <a:path w="2984" h="560">
                <a:moveTo>
                  <a:pt x="0" y="0"/>
                </a:moveTo>
                <a:lnTo>
                  <a:pt x="2984" y="0"/>
                </a:lnTo>
                <a:lnTo>
                  <a:pt x="2984" y="56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4051440"/>
            <a:ext cx="4343400" cy="1981080"/>
          </a:xfrm>
          <a:prstGeom prst="bevel">
            <a:avLst>
              <a:gd name="adj" fmla="val 152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-BIST Design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havio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NC-Veri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Verilog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RTL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 and Route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Encounter</a:t>
            </a:r>
            <a:r>
              <a:rPr b="1" lang="en-US" sz="26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with Custom Memory: </a:t>
            </a:r>
            <a:r>
              <a:rPr b="1" i="1" lang="en-US" sz="2600" spc="-1" strike="noStrike">
                <a:solidFill>
                  <a:srgbClr val="cccc00"/>
                </a:solidFill>
                <a:latin typeface="Arial"/>
              </a:rPr>
              <a:t>Virtu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4351680" y="236124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4364280" y="329940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4364280" y="4290120"/>
            <a:ext cx="380880" cy="182520"/>
          </a:xfrm>
          <a:prstGeom prst="rightArrow">
            <a:avLst>
              <a:gd name="adj1" fmla="val 50000"/>
              <a:gd name="adj2" fmla="val 5217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4364280" y="5280840"/>
            <a:ext cx="381240" cy="182520"/>
          </a:xfrm>
          <a:prstGeom prst="rightArrow">
            <a:avLst>
              <a:gd name="adj1" fmla="val 50000"/>
              <a:gd name="adj2" fmla="val 52219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679-D368-4CC3-942B-6C8DD289E0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-Down Flow Issues Fac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L Comp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used Nets connect to VDD, V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puts of standard blocks e.g. Carry-In of Ad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used bus signals: e.g. Z[4] of a bus Z[11:0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&gt;   vs    [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o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6C2-E27A-4F4A-8709-53EDE63739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2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40:37Z</dcterms:created>
  <dc:creator>Sudhanshu</dc:creator>
  <dc:description/>
  <dc:language>en-US</dc:language>
  <cp:lastModifiedBy>Sudhanshu</cp:lastModifiedBy>
  <dcterms:modified xsi:type="dcterms:W3CDTF">2010-04-22T04:41:28Z</dcterms:modified>
  <cp:revision>46</cp:revision>
  <dc:subject/>
  <dc:title>Bit-Line Leakage Cancellation:  Design and Test Automation</dc:title>
</cp:coreProperties>
</file>